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D831-E33A-401C-B3D4-3D9A9561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AA5D-7963-4F14-B233-561C9540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CC0FD-9AA1-4DB5-B9DA-86DA3CEC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C5AB9-5788-4A77-9883-8F152FDC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264FE-6406-4AFF-B6F7-AA60FC42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246C9-899A-4464-B795-E763F4E2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21322-8D9C-434E-AA0D-08102148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ADC8D-E6F3-4646-909E-2F5FC7A8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E5E73-D784-40D2-BE5B-08AB4BF3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A6A5E-7A7E-4644-84E2-542EBEA0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68D28-7EB3-4BE8-935A-3456A221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CFB93-103F-4677-8A4A-E42EE3F4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EAC1-D29A-48B1-A2DB-6ABA7AE3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C1C78-A4AB-44AD-894A-B11B4964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AA522-5E35-4EE4-B96D-D7EABEA5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69E48-A9EA-4275-941A-980392A5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E61CA-D644-4158-B1A2-F0055835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A780E-E83C-4659-83DF-04ABCF8F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7DC60-9463-4858-9A97-55468415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13CD6-B5C7-4073-8402-CD0EC5F1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2F73C-1ACD-43A5-843D-EA4CB5A1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4A553-A8E2-4004-840F-98DC7475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1F707-E9F0-4411-AC4E-2DFF2310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2D33-49D0-408B-9B28-FE10DC97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141FA-1170-42CF-BCB4-1812BFD3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807AF-3A9E-4256-A290-A7F74206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16A9E-5994-4721-BB08-02C6E8CE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E69A7-C3A0-4C4F-84D6-814E6C1A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374DB-FE93-4C92-84E1-39786D72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21420-E913-4E41-B59D-412C7EC3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F181E-CD1C-4EDB-8C9A-B7946C79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83052-EA1C-4009-A763-D979CE12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188E9-9F12-4B37-80F3-62F9593F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ED913-36D4-4A56-991D-F597B232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C99F-2B40-40B6-A5BD-6CD2E2B2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10A07-69DF-40E4-B2C5-E012DDA2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5BC59-C125-42ED-9DFA-A20CD8DB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E8473-3A73-4081-8D4B-9986B222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C3F7F-C60A-4FF8-9A86-A0DBD41E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D662F-5C1A-4654-A196-844498AE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56C36-10CE-48E5-869D-83360851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10C53-2525-478B-86B3-B2F2F917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C6119-BDA9-4796-A983-D8B14353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4D461-6D13-4A10-8BE7-C4CC314A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7FE3C-257E-4E0F-A5B1-8E45FAE4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6FD3-ABF0-4758-B2CB-C97A84A0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D9AC0-F184-4092-9D4C-E6D2DCF0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02F81-20A1-4854-A50C-222D06D6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8ADF9-14FB-4E06-9534-DB894BD3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C8C59-7615-4D6C-AC53-CC65953F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A25A0-4FCE-4030-B9F4-BC970744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8FE3-4057-4F64-940C-6F9C4B02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7E21-ED33-45CB-9FBC-F29D0704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3AAA-64FA-4C70-B02A-3950ADBD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DE6C-DDF9-4D23-B30E-D26665DA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1557-40A3-4031-9D08-61FCAE0C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F615-4E5A-45B9-A604-AFD07DAE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79EB-7AA0-4D1C-9EA8-C763BFB9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99A2-285E-426B-837E-2E95D2DC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F0E7-7958-42FC-9B40-A7D31EF5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E643-796A-44A7-8226-F975B114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EBE9-9699-4E8D-B8B2-DD1692BA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524B8-6F2C-47C1-8803-5946CE82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3257C-9BE1-4396-A219-AE522131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BEB19-38BD-4506-ABB9-21E2F998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7D6B4-7836-4799-B6FB-68E32CBA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9FCB3-ED38-4F0E-AAE7-C3E7D748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9052-FEDA-4321-87C5-BA56F539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4026C-AA87-438F-9EB2-12B5FC84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AB3BA-1FBB-45A8-9244-5590A73F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9651E-FF40-4F13-9BFD-C8A13AE4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B68D9-1AC0-4265-8FBE-A5105018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8421D-4C86-4CC5-927F-A3BA4113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1BBCA-89B7-4302-AB81-6494FF68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27763-A1A8-49E4-AFC4-6CDA764A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AA333-D3C0-4F21-B846-E6CAFE43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DFBE4-6313-42A4-98C6-B9D61478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A8691-3CEE-4B46-985E-BD6B5861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E27D-DE52-42C9-8F55-77B4227D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F5E52-1DBE-4F08-B630-14C9EEBB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F5E61-2A6C-43FA-843B-DCD213DE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5F0B6-C472-4C7C-834C-4E029250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10782-0AD1-4CE8-97F4-E6138800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BAE8F-97ED-4575-92A2-505E3B99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A53C2-A30C-4B02-ABB3-D6DAB3AF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2E5D9-635E-4A6D-8490-167573A8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856BD-6D28-41FF-84AA-08AA6B6E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CD4B3-1E6E-4E86-8EBA-F51EC1A4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2C909-B9FB-484F-B37B-801C9964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ECA3-786B-49C9-98C7-3439B1BD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5F979-4BD6-4828-A69A-563D4E2F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08B0F-8B31-437E-9581-FC58AB48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43681-58BB-44C3-9E5E-C47CA2EB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308C0-B924-4567-BE86-877D5A5E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3E122-4150-41F8-9144-781B4C5C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A3E86-ADE5-4388-BD39-470FB31B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5A42F-45C0-4220-86B3-2293DBF7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FB270-05AA-4D1B-B82E-3DADC1CC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85117-7D0C-4F0F-91E5-9BCF6B1D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2DB6E-BD11-4DD7-9F74-82CE0B30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D451-8AE5-4BD1-A696-F3848825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9E834-71F4-4810-A6EC-B3260433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9695A-0083-4E2D-BE64-B177FF8E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BA095-2858-44CE-9E5A-E9D5164C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84DE4-6153-401B-B776-8D07A3A8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08F89-E145-45AB-B72A-0F4679B7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004BB-F246-4EFD-8DC0-94ACE2C4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88262-C2E1-40C5-8E69-1031C4DE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DA08B-1A91-44DA-BD66-459F7F95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959B6-25A1-4D7C-B7CF-A0FDA331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0F0DA-4C58-4EE3-BBAA-09FD5B76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94B4-65EF-4DBA-8FA9-E7E228BB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B79E8-D3DD-49E3-9133-31C6C3EC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01817-74C8-4F3B-BC70-C20BD1FB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86A6D-DEFF-42AD-8AF2-4276E611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E185C-6C0D-4D2C-9548-8F842D8C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0495A-CDFD-4684-8D35-DC9CC1C1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5A34C-5974-4D70-A4D6-D014B90F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90181-5ACB-4DB0-8436-8DF2E705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665C1-08BC-48A8-B1EA-4E1DD2ED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DC636-6D16-41DF-9426-C37039BD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3946E-76DE-4F7A-BF2F-3584EC6D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24DB-8325-4486-8927-6F002612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DF57F-D81E-42F3-9F1F-E8009DBE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337B6-037E-4223-BE59-946B2287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3C6EE-D33D-4AEB-BB33-DC687487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FEAB2-4CDC-428A-955C-0F0303CB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B87A3-3BF1-4B07-BCC5-688FB904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2FE9D-05D6-4A7D-8C61-81D31E04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2B539-BFA2-45C8-8583-ED2FA988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3BFA3-E012-4903-8B3A-CF1FCA8A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D3347-9C0A-4D4C-BED1-C88C5B6F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8CADD-B910-4C07-AEC5-D22C781B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776C-A8A5-43D8-A042-EEDA1BE5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E5882-EC09-4D8C-AF23-7530DE0E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DA646-15A7-49B4-B236-3094807B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F4257-F994-4F4C-A224-8E43E105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DFF90-9CA4-41C5-AB8A-B4CFA3C4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AE8F2-F566-4B4C-8EF4-C8DD61B0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E8294-CD59-479A-A33B-2C95CCE3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DBB20-A572-4A57-BEC5-509EBCA4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97A12-88D7-4EB2-A6F2-AA0A3F9B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2153D-F184-4112-8F9F-02CB0201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E82E5-BF6B-4394-BE68-07775576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5FA3-EAE7-43AD-A483-5EFE1F2016E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BEB2-0465-4204-A17D-74D72481E1C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0364-7203-44A9-A277-7D8646648B4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87F5-807D-4B3F-9B4D-A93C90DFCCC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1C45-E652-4A05-8C0F-67BBC4F9B4E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18AF-1B18-41A6-AFF5-4D12B998D8E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782A-2294-4DEF-8863-ED59AA23CCD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A6D9-FE06-4F04-BA79-BC5080C7F14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C216-AB3F-4147-82D1-A16A654D984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5C12-4B62-4A11-8DE8-4242A89B3D5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A944-FA9A-427D-95C9-4474C600C7A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5CDC-9EFA-44D7-B842-B4499A2B1F3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78 V Kristovi kto našiel spás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ristovi kto našiel spás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ískal Božej lásky da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neustálych zvratoch čas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 aj smrti hľadieť v tvá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ristovi kto cieľ svoj naši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 aj v kríži k nemu sme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sna krv mu dáva náde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pustenie, duše mi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ristovi kto poznal Pá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 sa smie v ňom rado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 aj v tiesni bez reptani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iu lásku zvest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á radosť po únav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čakáva pútnik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a zaskvie v Božej sláv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ový obraz človeka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6-11T15:29:17Z</dcterms:modified>
  <cp:revision>21</cp:revision>
  <dc:subject/>
  <dc:title>Je veľký náš Pán, on slávy je Kráľ Nech do všetkých strán  spev vrúcnych znie chvál.</dc:title>
</cp:coreProperties>
</file>